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0F86-3599-485B-9405-1B390AC8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E294-CDA6-4965-B520-20969EFF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1FC-1CF8-43BC-A682-85320408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161-3CFA-43EB-8F63-3C079654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4B07-F332-45F1-8212-0B22F098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9A5-5B69-453E-A989-43400655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7747-709D-4AEB-B3C1-0665412E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A574-39AD-4CB0-8D46-4630A5F7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6C7-0A60-4721-A13F-A8617CFA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1CE7-2F27-4290-A282-65A0C594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B90C-8A29-48D5-93C2-4025E31C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C6B-22ED-4DE3-95E2-72723A21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D0DC-1D80-4571-8786-9A9C26117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y02" descr=""/>
          <p:cNvPicPr/>
          <p:nvPr/>
        </p:nvPicPr>
        <p:blipFill>
          <a:blip r:embed="rId2"/>
          <a:stretch/>
        </p:blipFill>
        <p:spPr>
          <a:xfrm>
            <a:off x="0" y="0"/>
            <a:ext cx="5511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69040" y="701640"/>
            <a:ext cx="5664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ُطْلبوا ملكوتَ اللهِ وبرَّهُ أول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كلُ تلك الأشياءِ تُزادُ ل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هللويا هللوي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إِسألوا يُعطَى لكم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ُطلُبوا تَجِدو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إِقرعوا يُفتَحُ البابُ ل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هللويا هللويا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55:50Z</dcterms:created>
  <dc:creator>USER</dc:creator>
  <dc:description/>
  <dc:language>en-US</dc:language>
  <cp:lastModifiedBy>USER</cp:lastModifiedBy>
  <dcterms:modified xsi:type="dcterms:W3CDTF">2003-01-20T01:09:43Z</dcterms:modified>
  <cp:revision>2</cp:revision>
  <dc:subject/>
  <dc:title>PowerPoint Presentation</dc:title>
</cp:coreProperties>
</file>